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4CF-CCE6-433C-B289-88BABDA1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46B-1F50-4BE1-B67E-00C05793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BDC3-D053-47A0-81CA-EBEC9E44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C85A-6591-4258-912B-177A7460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AED3F-ADBA-4A2F-B49F-19AB88AB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E5EF5-33FD-4B15-AFF7-BD8EFCF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D9D1C-695E-4AC6-8E4E-4A40B42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9D13-FCA0-43AB-BFD9-C013D1D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EF858-9197-4EA8-A1DC-6F3939A1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F0D45-581E-49C3-B619-518DA40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04838-9FC2-47E1-B260-E4D4747F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0C8-3550-4C64-91C5-B75D79F9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8BC-9684-4C28-BFC0-D5BD1E6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66F2-24BD-4BF4-BBAC-C99316DD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672-D408-41CD-A42F-DD6B1C06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034-6064-4476-AE84-2745175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9E5C-96F1-4AC4-B037-D02E814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C8DB-2C51-4D31-8BA4-5062E76F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B1D-A75E-4B9D-B33B-5BB2C06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F094-B877-4186-A592-036F921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5DE-5DC7-4835-B972-74D4AB0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873-4D9A-408D-9BF2-D7EE423E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55C0-B95D-4842-A2DE-1D6AECB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0614-480F-4044-8B24-F0A15C4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D01-EC02-43FA-9E03-2550CED2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C0DC-97CE-4F31-9361-EB991F09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DBE9-BDDC-41AA-B85C-AE87E202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0393-491C-482D-A958-40A61EAC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7677-D2DF-4397-B206-7C5347D2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BD30-A4DC-452D-B38F-17BC6DF7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9F17-E47B-4A32-B1AD-B540B750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527-5B58-4F68-A297-54F422E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0353-1CF3-4780-B752-1E9E528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EDD0-ED54-43A6-99A2-7220148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DDA8-C78A-42BC-A242-DF9F294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46D0-D6AB-4A06-9EA4-86A7372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45ED-5E71-4301-8742-49F2CE9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238C-4853-4191-968E-1AFCFDDB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E64E-4C3F-4CD8-B7F7-DFD324A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9BBF-16FA-48A4-B473-291EF857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A623-B15C-4B92-9BE7-91817E6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58EE-CB2D-401A-AA04-00FD81E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20E-52B9-4B51-943E-A75EF3B4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940F-F5C7-4B2B-B9C9-65981DD2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18C9-6683-4C6C-9B0D-C000911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C844-F729-4E7E-8A75-5C36FCE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B24EB-348A-40AB-9777-D45A8DE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E534-80D9-4393-9237-BE08C23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E425-13BA-44E6-AC17-8DD12CF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D04F-F3F2-4454-9872-4A4F49B4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78FC7-EEB6-4FE2-AAD8-94B35E31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D43A-83A7-4703-80F7-827CBF42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41AC-3CC5-44E2-9618-11BF1CB9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CDA-AC5D-4DB3-9EBC-D87D4D50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BFBD2-0D9D-4C20-A83B-01D160F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BE58-7900-4845-9712-7CAF7B65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A18D-302E-4542-8306-1B6B87AB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6DFA-09F1-4B9C-8D6E-3BDA5F7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15CB-3A95-41E1-B5D9-E9223BB9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37D7-FAC2-4B9F-8E4D-717EA4F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B374-EDF4-46AB-8C8C-FB3DA44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F7E5-574A-48ED-A951-1FB4506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F57D-1B7A-4B60-B57F-AB879E0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476FA-06B8-45F1-BA72-3716CF38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4CC-8FAC-4398-9059-8AE36E8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077B-D440-430C-A661-118626D7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4584-60DF-4AEB-BCA2-1D4D9ABF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9168-0C4D-4AC1-8EA4-E3F6A4E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8973-091B-4267-875E-429BA93B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2680-F8B0-42FA-9A79-5A664B5C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6AF5-C319-408F-842B-ECA02EC7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46E9-7724-405A-8101-32D72C1A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F360E-0D7B-45D7-8CF2-AF85D5F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D3F7-1349-40BD-A6D0-5F84E8A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6CCD-6788-4867-A2F6-9381EB3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B68-C6B7-41CF-9547-8E6EE06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3748-B753-4501-A7E8-0E7A3CDB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B2AC-2EEA-44DD-B40F-8E8DF5A1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9490-04BE-4591-B70C-5D751D4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1E75-4221-425A-959D-77E3B3D7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847E-7AAD-4605-AB55-7481A7D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1001-1475-4F5B-B445-99DB88F2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E170-C5EC-45D4-AA38-5F97F84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182D-B3F8-467A-8AC5-3C7C32EC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2CDF-BCFC-4A46-8C09-F00CB7F5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0595-08BA-446F-B1DA-93C3BF4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FA5-F5BD-4AA5-9483-8A051C6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1BD3-BDB5-4DE7-9E97-FC090ED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7F78-C3D2-4D2B-8F87-4E7A17C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1328-EC22-4331-8BB7-8B9429E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9A40C-FC59-4554-AC71-FE838304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E2D9-6D40-47A6-9458-B9E523F4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5A75-EEAD-4B8F-90ED-25DEDEFC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353B-750C-4416-9A79-C494DC7C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9E83-FAFD-449A-B004-D4C96EB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D0B5E-D24F-418B-8DB3-6125870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7F497-3FCC-419B-879E-0ED015F5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EFB-5B52-48A9-9CB8-796CB545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551D-DCF6-4084-984B-15C9870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7C40A-A335-4273-B740-02C6C365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E67F-2E87-4DC5-B7D8-B1A4269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9B261-3C65-4D59-975D-54B386F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9065B-786B-40B4-A66D-013A6F76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7CD6-1F0E-41EC-B18B-6EEF2B1D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3CD2-9BD2-4AB0-8FDC-2BD34DE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B891F-7C6C-4F45-928F-9438EA8C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7FCF0-9DC0-4583-9E35-982DA67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2729-E7ED-4591-9089-9F53C5A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F71-4568-494D-A49F-7612FC8D8C1D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47C-31F4-44C7-8F99-055A7AA05C34}" type="slidenum">
              <a:rPr b="0" lang="en-CA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7E5E-BFE4-4846-9BC4-C8B8E7D1E011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4C86-83C3-430B-9E04-9C87EB952EF3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36BD-6AAE-4A0E-B714-B0E6BD3905B0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E2E-1D91-4C47-AAB0-2368568657E3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F7BC-DB77-4026-8253-CA349CBA63A8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847-E98A-4884-9CA3-FD518EDBFD3D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CE3-5E24-4D6E-80C9-59101E20AC4C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2560" y="12600"/>
            <a:ext cx="7772400" cy="23162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416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fter you have written your essay, write your conclusion. In the first sentence of your last paragraph, sum up what you have written so fa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Your final goal in the rest of your closing paragraph is to push your essay one step further, toward a universal truth that applies to the topic at han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sk yourself some of these questions as you conclude your essay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7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hat did you learn through these realizations and experiences?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hat action should an individual facing these issues take next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How can you reconcile your experience with the rest of the world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7: ?’s to ask Yourself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eer Edit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Good cop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8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n exploration of a topic using personal thought and experien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The goal of the reflective essay is ultimately to weave together reflections in a way that conveys a new thought to the reader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This seemingly flowing essay requires a large amount of planning and structure during preparation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What are Reflection Pieces?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Create your opening paragrap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aint a picture to create a "hook" so that the reader becomes engage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End with your thesis sentence, a cohesive springboard for the reflections to come, rather than a single point that you will prove throughout the pie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1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Make a "mind map" on a separate sheet of paper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Draw a circle with your topic written in the center and draw lines around it, extending out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Brainstorm which personal experiences you can disclose in your essay, as well as facts or events you might includ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rom each specific idea, map out your thoughts and reaction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2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2- Mind Map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993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Create an outline from your mind map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Select your strongest experiences and points and group them into paragraph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Order the paragraphs in a logical way, focusing on the reflections the reader should absorb to follow the evolution of your thought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r instance, if you are writing about grief, you would want a paragraph dealing with reactions to death to precede one that centers on coping mechanism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3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Include specific personal experience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Any experiences you recount should be brief, but make sure they are unique and concret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cus your memories to a short incident or experience, rather than leaning on vagary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r instance, in an essay about personal conflict, talk about a specific heated exchange with your father, rather than the fact you simply "fight a lot."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4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rite your essay using your outline as a guide. As you write, focus on vivid, honest language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Keep one point or experience and its reflections to a single paragraph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5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ROOFRE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One of the hardest parts of a reflective essay is to keep the reader tracking with your mental or emotional journe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6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8:40:56Z</dcterms:created>
  <dc:creator>Jason</dc:creator>
  <dc:description/>
  <dc:language>en-US</dc:language>
  <cp:lastModifiedBy>Jason</cp:lastModifiedBy>
  <dcterms:modified xsi:type="dcterms:W3CDTF">2011-04-17T19:44:42Z</dcterms:modified>
  <cp:revision>2</cp:revision>
  <dc:subject/>
  <dc:title>4.2 Writing Reflective Pieces</dc:title>
</cp:coreProperties>
</file>